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290D-D940-4470-AD90-AAAA34AD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47593EE-1ED9-4281-A734-BAD098901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0EFAEC8-09EF-4267-9161-F64468514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6BF6D5E-33F3-431E-9407-35BE8A371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87186AD-39F6-48A7-BF60-02E38B1B5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233-3131-40E9-88F3-FED9BE19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22F-4554-4598-B50D-456404C2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278-D0FE-4056-98F0-5A9E35F9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48B-5D18-4AC4-BBCA-CB86D171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C5F-2882-404B-B5A9-3DA15973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A5B-6BB5-456B-B323-4E67A143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F5A-7D74-48A3-88F1-3B81DBE6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805-9327-451D-AE26-DEB61AAA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49B-7A33-4D80-AA5F-E625A505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DF2-F41B-4487-90D3-F848BCA6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B42-0BC8-4F52-8084-DB243F83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4A4-3B93-47C9-A10B-F73A7867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4F6C-74EE-472A-85B3-3B05B65B5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YRIC VoIP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295280"/>
            <a:ext cx="8382240" cy="4191120"/>
          </a:xfrm>
          <a:prstGeom prst="rect">
            <a:avLst/>
          </a:prstGeom>
          <a:gradFill rotWithShape="0">
            <a:gsLst>
              <a:gs pos="0">
                <a:srgbClr val="e2e2f6">
                  <a:alpha val="26274"/>
                </a:srgbClr>
              </a:gs>
              <a:gs pos="100000">
                <a:srgbClr val="f5f5fc">
                  <a:alpha val="29019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VoIP systems with WNYRIC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with e-mail to provide unified communications and real-time collaboration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-mail integrated into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and video conference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top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capability with Lotus Sam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future cost reductions, better service levels, new applications and future offe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VoIP Ad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1371600"/>
            <a:ext cx="8077320" cy="4114800"/>
          </a:xfrm>
          <a:prstGeom prst="rect">
            <a:avLst/>
          </a:prstGeom>
          <a:gradFill rotWithShape="0">
            <a:gsLst>
              <a:gs pos="0">
                <a:srgbClr val="e2e2f6">
                  <a:alpha val="26274"/>
                </a:srgbClr>
              </a:gs>
              <a:gs pos="100000">
                <a:srgbClr val="f5f5fc">
                  <a:alpha val="29019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with Lotus Sametime (which ties into Lotus Notes and Exchange) for Unified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stant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lick-to call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to portal and enable communication with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onnect with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voic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E Desk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447560"/>
            <a:ext cx="5638680" cy="3809880"/>
          </a:xfrm>
          <a:prstGeom prst="rect">
            <a:avLst/>
          </a:prstGeom>
          <a:gradFill rotWithShape="0">
            <a:gsLst>
              <a:gs pos="0">
                <a:srgbClr val="e2e2f6">
                  <a:alpha val="26274"/>
                </a:srgbClr>
              </a:gs>
              <a:gs pos="100000">
                <a:srgbClr val="f5f5fc">
                  <a:alpha val="29019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le Communication Engin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your desktop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Lotus Same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+ Desktop +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ly add video or other communication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2" descr=""/>
          <p:cNvPicPr/>
          <p:nvPr/>
        </p:nvPicPr>
        <p:blipFill>
          <a:blip r:embed="rId1"/>
          <a:stretch/>
        </p:blipFill>
        <p:spPr>
          <a:xfrm>
            <a:off x="5791320" y="1143000"/>
            <a:ext cx="319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E and IBM Same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240" y="1752480"/>
            <a:ext cx="3886200" cy="3810240"/>
          </a:xfrm>
          <a:prstGeom prst="rect">
            <a:avLst/>
          </a:prstGeom>
          <a:gradFill rotWithShape="0">
            <a:gsLst>
              <a:gs pos="0">
                <a:srgbClr val="e2e2f6">
                  <a:alpha val="26274"/>
                </a:srgbClr>
              </a:gs>
              <a:gs pos="100000">
                <a:srgbClr val="f5f5fc">
                  <a:alpha val="29019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from Same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tarting a conference you can Drag and Drop participants into conferenc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1529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11:56Z</dcterms:created>
  <dc:creator>Dale</dc:creator>
  <dc:description/>
  <dc:language>en-US</dc:language>
  <cp:lastModifiedBy>Dale</cp:lastModifiedBy>
  <dcterms:modified xsi:type="dcterms:W3CDTF">2009-11-16T18:46:12Z</dcterms:modified>
  <cp:revision>2</cp:revision>
  <dc:subject/>
  <dc:title>WNYRIC VoIP Services</dc:title>
</cp:coreProperties>
</file>